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388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6388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4080" cy="34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067F28-24A7-4397-8F02-16B541543C2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F5C2-A936-4D6A-8DA8-4AB26AA87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168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19400"/>
            <a:ext cx="822168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0671-22EB-43C7-A1D3-B4E5EB8CB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184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9920" y="1719360"/>
            <a:ext cx="401184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9400"/>
            <a:ext cx="401184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9920" y="4019400"/>
            <a:ext cx="401184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537E-AE45-429B-98DF-402B6E159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708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7120" y="1719360"/>
            <a:ext cx="264708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16680" y="1719360"/>
            <a:ext cx="264708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19400"/>
            <a:ext cx="264708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7120" y="4019400"/>
            <a:ext cx="264708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16680" y="4019400"/>
            <a:ext cx="264708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D94F-208B-47A0-AD35-F91C3F559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395AC-7F14-4807-ACB6-1CAF187FC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168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71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79EDE-6295-43A9-ABB1-9963606E1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168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CB1B6-29A7-4985-A4A6-E39C0D4D8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184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9920" y="1719360"/>
            <a:ext cx="401184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1D01F-FC08-48FF-A05B-045B9A001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00DA6-708A-4522-ADC8-2A8EACB6E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476000" y="115920"/>
            <a:ext cx="7535880" cy="59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71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E1E66-D1F5-4D07-A3C9-6DB73DF1B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184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9920" y="1719360"/>
            <a:ext cx="401184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019400"/>
            <a:ext cx="401184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6587B-3D82-4041-8610-D597C229D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168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71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98FC-FD55-479F-BBF5-9BB37BC2C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184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9920" y="1719360"/>
            <a:ext cx="401184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9920" y="4019400"/>
            <a:ext cx="401184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BCAF9-6CB3-4C80-B962-052CC6010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184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9920" y="1719360"/>
            <a:ext cx="401184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019400"/>
            <a:ext cx="822168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C6E25-2440-406D-9719-8110CD3BF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168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019400"/>
            <a:ext cx="822168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43BF7-338C-4F4F-BF41-AC4BFE415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184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9920" y="1719360"/>
            <a:ext cx="401184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019400"/>
            <a:ext cx="401184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9920" y="4019400"/>
            <a:ext cx="401184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23ACD-C79F-4615-8181-911FD6C2A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708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7120" y="1719360"/>
            <a:ext cx="264708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16680" y="1719360"/>
            <a:ext cx="264708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019400"/>
            <a:ext cx="264708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7120" y="4019400"/>
            <a:ext cx="264708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16680" y="4019400"/>
            <a:ext cx="264708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0FA2D-8B77-4E96-A7F7-5706C60E8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168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566C-F111-4222-B2AA-7FFC4D1DB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184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9920" y="1719360"/>
            <a:ext cx="401184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C357-16DD-428F-A8D1-5FA2B20CB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E2DE-9605-4942-9397-4E317A19A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476000" y="115920"/>
            <a:ext cx="7535880" cy="59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71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31EE-A313-48E6-A302-077EF6AE9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184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920" y="1719360"/>
            <a:ext cx="401184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19400"/>
            <a:ext cx="401184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5992-0100-4699-B3BA-6AA95DAFE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184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920" y="1719360"/>
            <a:ext cx="401184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9920" y="4019400"/>
            <a:ext cx="401184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A64B-3C8C-455E-B828-4C9A3C702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184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9920" y="1719360"/>
            <a:ext cx="401184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9400"/>
            <a:ext cx="822168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2A70-927E-4F12-8C32-3B547C04A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4753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168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71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71000"/>
              </a:lnSpc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79560" indent="-290520">
              <a:lnSpc>
                <a:spcPct val="71000"/>
              </a:lnSpc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3320" indent="-290520">
              <a:lnSpc>
                <a:spcPct val="71000"/>
              </a:lnSpc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0840" indent="-308160">
              <a:lnSpc>
                <a:spcPct val="71000"/>
              </a:lnSpc>
              <a:spcBef>
                <a:spcPts val="751"/>
              </a:spcBef>
              <a:buClr>
                <a:srgbClr val="330066"/>
              </a:buClr>
              <a:buSzPct val="8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0840" indent="-308160">
              <a:lnSpc>
                <a:spcPct val="71000"/>
              </a:lnSpc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0840" indent="-308160">
              <a:lnSpc>
                <a:spcPct val="71000"/>
              </a:lnSpc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258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792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258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A83DFC-3DD9-4FB2-9948-8B42BA8D65FA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34920" y="127080"/>
            <a:ext cx="1403280" cy="1069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475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476360" y="476280"/>
            <a:ext cx="677376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258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8792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258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B6ADE9-31CD-43B7-82AF-2DE731CE7D8F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34920" y="127080"/>
            <a:ext cx="1403280" cy="10699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4800" indent="-334800">
              <a:lnSpc>
                <a:spcPct val="71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71000"/>
              </a:lnSpc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79560" indent="-290520">
              <a:lnSpc>
                <a:spcPct val="71000"/>
              </a:lnSpc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3320" indent="-290520">
              <a:lnSpc>
                <a:spcPct val="71000"/>
              </a:lnSpc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0840" indent="-308160">
              <a:lnSpc>
                <a:spcPct val="71000"/>
              </a:lnSpc>
              <a:spcBef>
                <a:spcPts val="751"/>
              </a:spcBef>
              <a:buClr>
                <a:srgbClr val="330066"/>
              </a:buClr>
              <a:buSzPct val="8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0840" indent="-308160">
              <a:lnSpc>
                <a:spcPct val="71000"/>
              </a:lnSpc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0840" indent="-308160">
              <a:lnSpc>
                <a:spcPct val="71000"/>
              </a:lnSpc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1403280" cy="12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57200" y="2666880"/>
            <a:ext cx="8224920" cy="35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36600"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est of Rec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336600"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ELF Con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336600" algn="ctr">
              <a:lnSpc>
                <a:spcPct val="93000"/>
              </a:lnSpc>
              <a:spcBef>
                <a:spcPts val="499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6600" algn="ctr">
              <a:lnSpc>
                <a:spcPct val="93000"/>
              </a:lnSpc>
              <a:spcBef>
                <a:spcPts val="499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uly 25,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95280" y="765000"/>
            <a:ext cx="8456760" cy="18385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403280" y="5445000"/>
            <a:ext cx="66088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 Bi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F Architecture Group Ch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Graphic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168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24720" indent="-324720">
              <a:lnSpc>
                <a:spcPct val="93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ing DirectFB gfxdriver For Your Embedded System - Takanari Hayama (ELCE07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4720" indent="-324720">
              <a:lnSpc>
                <a:spcPct val="93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rectFB Internals - Things You Need to Know to Write Your DirectFB gfxdriver - Takanari Hayama (ELC08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4720" indent="-324720">
              <a:lnSpc>
                <a:spcPct val="93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dding Framebuffer support for Freescale SoCs - York Sun (ELC08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4720" indent="-324720">
              <a:lnSpc>
                <a:spcPct val="93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streamer and OpenMAX IL: plug and play - Felipe Contreras (ELC08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emory Managemen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168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93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ymmetric NUMA: Multiple-Memory Management For The Rest of Us – Paul Mundt (ELCE07, JJ19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3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mplementation of Memory management method for embedded systems using CABI - Miyake (JJ18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3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wap usage in embedded system (Korean) - Seung-Ho Park (KTJ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3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voiding Out-Of-Memory on Embedded Linux Young-Joon Jang (KTJ2, ELC08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3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pendable Memory management system for Embedded Linux (Japanese) - Yamamoto (JJ20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obile Phon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168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93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velopment of Mobile Linux Open Platform (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Android) -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Junji Kondo (JJ18, ELC08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65840" y="3285360"/>
            <a:ext cx="82123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PE Phone Edition - An Open Source Software Stack for Linux Mobile Ph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ower Managemen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168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17880" indent="-317880">
              <a:lnSpc>
                <a:spcPct val="93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ower Management Architecture For Mobile Devices - Matthew Locke (ELCE07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7880" indent="-317880">
              <a:lnSpc>
                <a:spcPct val="93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nux Suspend-to-Disk Objectives for Consumer Electronic Devices – Vitaly Wool (ELCE07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7880" indent="-317880">
              <a:lnSpc>
                <a:spcPct val="93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nux Clock Management Framework - Siarhei Yermalayeu (ELCE07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7880" indent="-317880">
              <a:lnSpc>
                <a:spcPct val="93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Dynamic Voltage and Current Control Interface for the Linux Kernel – Liam Girdwood (ELC08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ower Management (cont.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168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93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wer Management Quality of Service and How You Could Use it in Your Embedded Application – Mark Gross (ELC08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3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uilding Blocks for Embedded Power Management – Kevin Hillman (ELC08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3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nux System Power Management on OMAP3430 - Richard Woodruff (ELC08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rocessor/Platform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168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93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CELL BE -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. Machida (ELCE07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3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RM procedure call standard – Hee Seo (KTJ2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RealTim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168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93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Recent new Features in NPTL -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Hiroki Kumagai (JJ16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93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overs priority inheritance mutex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3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ABI, CPU Resource Allocator development status - Y. Yuasa (JJ17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3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tatus Overview of Real-Time – Thomas Gleixner (ELCE07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3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T Patch for Cell EB - Patch Status and Performance Measurements - Tsutomu Owa (ELCE07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3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Using Real-Time Linux -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Klaas van Gend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(ELC08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3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eal-Time Virtualization Solutions for Linux - A Comparison of Strategies - Nicholas McGuire (ELC08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3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dventures In Real-Time Performance Tuning - Frank Rowand (ELC08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3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e Completely Fair Scheduler - Thomas Gleixner (KTJ3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3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esigning a Realtime System with MV Linux- Seung-Ryong Kwon (KTJ3)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ecurit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168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1040" indent="-311040">
              <a:lnSpc>
                <a:spcPct val="93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noppix 5.1.1 for Trusted Computing Geeks - K.Suzaki (JJ17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lnSpc>
                <a:spcPct val="93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usted Secure Isolation For Embedded Linux – Hadi Nahari (ELCE07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lnSpc>
                <a:spcPct val="93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velopment of Embedded SELinu - Yuichi Nakamura (JJ18, ELC08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lnSpc>
                <a:spcPct val="93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erformance evaluation of Secure OS using LSM - Naoto Matsuda (JJ18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lnSpc>
                <a:spcPct val="93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cent Security Features and Issues in Embedded Systems - KaiGai Kohei (ELC08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ecurity (cont.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168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93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voiding Web Application Flaws in Embedded Devices – Jake Edge (ELC08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3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 to Analyze Your Linux's Behavior with TOMOYO Linux - Kentaro Takeda (ELC08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iz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168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84400" indent="-284400">
              <a:lnSpc>
                <a:spcPct val="93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Compressed Cache – (JJ16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3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Linux-tiny update – Satoru Ueda (for Tim Bird) (JJ17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3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nux Tiny - The Diet Must Go On – Michael Opdenacker (ELCE07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3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ed Swap Solution for Embedded Linux - Alexander Belyakov (ELC08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3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ernel Size Report, and Bloatwatch Update – Matt Mackall (ELC08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3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nux Tiny - Penguin Weight Watchers – Thomas Petazzoni (ELC08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hat is this presentation about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686800" cy="54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93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Just FYI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3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ELF has lots of ev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3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ots of material is presented at these ev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3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nfortunately, most people don’t know about i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93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gional events in Asia are in local langua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93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st presentations are translated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3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s is an overview of material from different ev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ool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168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93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TimeDoctor -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rancois Audeon (ELCE0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3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Using a JTAG for Linux Driver Debugging – Mike Anderson (ELC08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3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How GCC Works, An Embedded Engineer's Perspective – Gene Sally (ELC08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3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mbedded Linux Development with Eclipse - JT Thomas (ELC08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3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cratch Box on cross compile environment (Japanese) – Kobayashi (JJ20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3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cratch Box on cross compile environment - part 2 (Japanese) – Fuse (JJ21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racing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168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93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KFT on PPC – Tsutomu Owa (JJ16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3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Profile porting on MIPS architecture - Takehiko Nagano (JJ16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3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pisodes of LKST for Embedded Linux Systems -  Hirohisa Iijima (ELC08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3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unction-Call Backtracing based on MIPS architecture Linux System - Jong-Sung Kim (KTJ3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utorials/ Development tip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168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93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Dynamic Linking 3 –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etsuyuki Kobayashi (JJ16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3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arning Kernel Hacking from clever people – Hugh Blemings (ELC08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dvice/Tips for Acting within Communit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168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57760" indent="-257760">
              <a:lnSpc>
                <a:spcPct val="93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o Go Along with Community – Shibata (3-JJ17) (4-JJ18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760" indent="-257760">
              <a:lnSpc>
                <a:spcPct val="93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Experiences Posting Patches to the Community -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akamura  (JJ16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760" indent="-257760">
              <a:lnSpc>
                <a:spcPct val="93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ree Software, Licensing and Business Processes - Shane Martin Coughlan (ELCE07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760" indent="-257760">
              <a:lnSpc>
                <a:spcPct val="93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thods to Protect Proprietary Components in Device Drivers – Matt Porter (ELCE07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760" indent="-257760">
              <a:lnSpc>
                <a:spcPct val="93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rom the world of Community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vid Woodhouse (JJ19, KTJ2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760" indent="-257760">
              <a:lnSpc>
                <a:spcPct val="93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Relationship Between kernel.org Development and the Use of Linux for Embedded Applications  - Andrew Morton (ELC08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dvice/Tips for Acting within Community (cont.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168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93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ppropriate Community Practices: Social and Technical Advice  - Deepak Saxena (ELC08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3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Discrimination Method of GPL License Violation on Embedded Products - Kyung-Ae Kim (KTJ3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dvocac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168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93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dvantage of Linux for use of Embedded system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(JJ18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Guidelin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168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93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heck eLinux.org past events periodical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93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Follow links to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93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Look for interesting stuf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3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If information (presentation or translation) is missing, ask about it on celinux-dev@tree.celinuxforum.or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3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If you are really kind, try to see if it’s already linked to from an appropriate area on eLinux.or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93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f not, link it!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3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200" spc="-1" strike="noStrike">
                <a:solidFill>
                  <a:srgbClr val="00cc99"/>
                </a:solidFill>
                <a:latin typeface="Arial"/>
              </a:rPr>
              <a:t>                      </a:t>
            </a:r>
            <a:r>
              <a:rPr b="0" lang="en-GB" sz="2200" spc="-1" strike="noStrike">
                <a:solidFill>
                  <a:srgbClr val="00cc99"/>
                </a:solidFill>
                <a:latin typeface="Arial"/>
              </a:rPr>
              <a:t>(You have my permissio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That’s all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71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ELF event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845820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93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Embedded Linux Confere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93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Worldwide (ELC) – once a year in April, in the U.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93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uropean (ELCE) – once a year in the f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79560" indent="-290520">
              <a:lnSpc>
                <a:spcPct val="93000"/>
              </a:lnSpc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Next one is November 6,7 in Ede, The Netherland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3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Japan Jamborees (JJ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93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very other month, in Toky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3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Korean Technical Jamboree (KTJ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93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Periodically – probably have fourth one this f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opic area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168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93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Bootup Tim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3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Brows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3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Distribu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3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File Syste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3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Graphic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3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Memory Manage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3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Mobile Pho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3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Power Manage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0" y="1752480"/>
            <a:ext cx="4343400" cy="44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1120" indent="-321120">
              <a:lnSpc>
                <a:spcPct val="93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or/Platfor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1120" indent="-321120">
              <a:lnSpc>
                <a:spcPct val="93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alTim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1120" indent="-321120">
              <a:lnSpc>
                <a:spcPct val="93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cur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1120" indent="-321120">
              <a:lnSpc>
                <a:spcPct val="93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1120" indent="-321120">
              <a:lnSpc>
                <a:spcPct val="93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o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1120" indent="-321120">
              <a:lnSpc>
                <a:spcPct val="93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rac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1120" indent="-321120">
              <a:lnSpc>
                <a:spcPct val="93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dvice/Tips for Acting within Commun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1120" indent="-321120">
              <a:lnSpc>
                <a:spcPct val="93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dvocac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Bootup Tim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168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93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Bootchart lite (lightning talk) – Shuuji Miyake (JJ16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3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arallelizing Linux boot on CE Devices - Vitaly Wool (ELCE0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3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valuation and improvement of Bootchart - K. Yasui (JJ18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3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P TimeMeasure, A tool to masure application software startup time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Yoichi Yuasa (JJ19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3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nstant Startup for Application Using Reducing Relocation Time and Rearrange Function - Min-Chan Kim (ELC08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3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ast Booting of Embedded Linux - Ho-Jun Park (KTJ3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Browser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168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93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bKit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Linux and How It Compares to Other Open Source Engines - Holger Freyther (ELCE07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3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mbedding a Mozilla Based Browser - Sampo Nurmentaus (ELCE07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istribution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168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93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PokyLinux Distribution: Mobile GNOME at Your Fingertips - Dodji Seketeli (ELCE07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3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emo Mobile Linux Platform, Current Status and Future Directions – Kate Alhola (ELC08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3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oll-Your-Own Linux the Easy Way with LTIB – Stuart Hughes (ELC08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3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ilding Custom Embedded Linux Distributions (using OpenEmbedded) – Matt Locke (ELC08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3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ME - Ubuntu Mobile and Embedded - David Mandala (ELC08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ile System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168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1040" indent="-311040">
              <a:lnSpc>
                <a:spcPct val="93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JFFS2/YAFFS explanation and comparison of mounting time -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. Yano (JJ17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lnSpc>
                <a:spcPct val="93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mproving JFFS2 RAM Usage and Performance - Alexey Korolev (ELCE07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lnSpc>
                <a:spcPct val="93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troduction to LogFS - Jörn Engel (ELCE07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lnSpc>
                <a:spcPct val="93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YAFFS - Wookey (ELCE07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lnSpc>
                <a:spcPct val="93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e Comparison of Flash File system performace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- JFFS2, YAFFS, LogFS -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atsuki Uwatoko (JJ19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ile Systems (cont.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168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93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XFS: Architecture and Results – Jared Hulbert (ELC08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3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lesystem Support on Multi Level Cell (MLC) Flash in Open Source - Kyungmin Park (ELC08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Lanning</dc:creator>
  <dc:description/>
  <dc:language>en-US</dc:language>
  <cp:lastModifiedBy>Tim Bird</cp:lastModifiedBy>
  <dcterms:modified xsi:type="dcterms:W3CDTF">2008-07-25T00:30:41Z</dcterms:modified>
  <cp:revision>9</cp:revision>
  <dc:subject/>
  <dc:title>Slide 1</dc:title>
</cp:coreProperties>
</file>